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C2A-C036-4DD4-8C44-17C0C2FC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4BD-F5FA-4244-B9D1-FC36AB5F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41C-ED9F-49D1-8C59-0178FD58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00A-6469-4C2B-BA6F-C4BD70D3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18D-A431-40F6-8D34-94F96CDF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6F1-3E1E-4475-B9BB-052B3B67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28E-37C7-4C63-9A0B-0FE1A2C3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308-EC6F-4DE6-903A-D66DF9D1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31B-9F6B-4B88-BAC1-4E0A4563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116-2996-4DA7-B904-915355A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3E1-40E3-4E39-9AE2-1CF3911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961-F169-4477-B47A-40FB7F9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729C-153B-4C31-9CE3-919A109B29C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0 Skončila sa tmavá n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ončila sa tmavá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ila nás Božia moc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, skloň sa v láske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dnes ráč nás chráni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Ducha svojho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iere nás zachov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nad zlom víťaz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česť tvojho mena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 v tent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žeň každej stras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nám pokoj vl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d nami stále bde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04:30Z</dcterms:modified>
  <cp:revision>62</cp:revision>
  <dc:subject/>
  <dc:title>Je veľký náš Pán, on slávy je Kráľ Nech do všetkých strán  spev vrúcnych znie chvál.</dc:title>
</cp:coreProperties>
</file>